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9920-D6F9-40B4-923D-1FA4D65AC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C4DC-5B18-4D2D-A6BC-06A840EE9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6C8A-9F4C-4EF3-A395-8889D7464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2C70-D446-41C9-BBD7-93D07A6EE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6074-9717-40A8-ADBA-23E6AACE0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AAD6-9E2D-4D33-9E4B-83BA7A2C7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9AE0-8BD3-49C5-BC6F-C5FFDA1D9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2D2F-7EBE-4A0F-8B43-A63D3A039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D945-A137-438F-BBDC-74F27AFB4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BE0C-F134-4CAC-B257-74C4729BA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7DED-336D-4086-98A2-CD3B70282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4754-0115-4DCA-AD0C-CAD5808FB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F0DFD7-3F0C-40A0-97F5-B0BADD4D863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0-24T09:10:12Z</dcterms:modified>
  <cp:revision>85</cp:revision>
  <dc:subject/>
  <dc:title>No Slide Title</dc:title>
</cp:coreProperties>
</file>